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rebuchet MS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DEE82-0C38-4B08-9289-4ACDA184D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we get into this, I’d like a show of hands here – how many of you use an iPod, iPhone, or other MP3 player for your music collection? That’s most of you, I think. Than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occurred to me the other day, what is an iPo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ould I go to all the trouble of writing a new software system? That’s a good question, and one I occasionally ask myself. Furthermore, why should you car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47EE-86BD-45DE-B546-142FCEBAD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E8A3-380B-4CDD-A9C1-0051C2534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96CD-37BB-4693-B11D-6A38D41B8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E6C7-57C2-405D-BFEE-D83E9E1CF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B7DE-4B9C-4D27-BE13-6921CD19C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1E38-C7D3-47C4-8CA9-44B9D876B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7278-128C-4AE0-A3C9-A9BD92C52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2306-8B5B-4B3B-9860-B3A3B1BB6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9382-66AB-4637-AE18-789A5AD9F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C751-3518-45A4-9B35-7FA3383D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2AD8-3924-41FC-94D6-1EB977AC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7C1F-18EF-4B85-9658-FBB697E4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16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7200" y="6477120"/>
            <a:ext cx="3581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7777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7777"/>
                </a:solidFill>
                <a:latin typeface="Trebuchet MS"/>
              </a:rPr>
              <a:t>&lt;footer&gt;</a:t>
            </a:r>
            <a:r>
              <a:rPr b="0" lang="en-US" sz="1400" spc="-1" strike="noStrike">
                <a:solidFill>
                  <a:srgbClr val="777777"/>
                </a:solidFill>
                <a:latin typeface="Trebuchet MS"/>
              </a:rPr>
              <a:t>Introduction to Web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91520" y="6552720"/>
            <a:ext cx="12952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7777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E6E5D-61A0-42C1-AB04-A463CF8B2CEC}" type="slidenum">
              <a:rPr b="0" lang="en-US" sz="1400" spc="-1" strike="noStrike">
                <a:solidFill>
                  <a:srgbClr val="777777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phdcomics.com/comics/archive.php?comicid=1376" TargetMode="External"/><Relationship Id="rId2" Type="http://schemas.openxmlformats.org/officeDocument/2006/relationships/hyperlink" Target="http://www.phdcomics.com/comics/archive.php?comicid=1376" TargetMode="External"/><Relationship Id="rId3" Type="http://schemas.openxmlformats.org/officeDocument/2006/relationships/hyperlink" Target="http://www.phdcomics.com/comics/archive.php?comicid=1376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5331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rebuchet MS"/>
              </a:rPr>
              <a:t>Introduction to Web Services</a:t>
            </a:r>
            <a:endParaRPr b="0" lang="en-US" sz="5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"/>
          <p:cNvSpPr/>
          <p:nvPr/>
        </p:nvSpPr>
        <p:spPr>
          <a:xfrm>
            <a:off x="3795120" y="3962520"/>
            <a:ext cx="15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John D. W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743200" y="4724280"/>
          <a:ext cx="3645000" cy="79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4724280"/>
                    <a:ext cx="3645000" cy="7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0" y="6324480"/>
            <a:ext cx="541008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38280" y="2590920"/>
            <a:ext cx="428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Presented to the ASU Geophysics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June 11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rebuchet MS"/>
              </a:rPr>
              <a:t>Motivation (part 2)</a:t>
            </a:r>
            <a:endParaRPr b="0" lang="en-US" sz="44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rebuchet MS"/>
              </a:rPr>
              <a:t>SOD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was created because DHI was too complex for easy incorporation into scientific workflow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rebuchet MS"/>
              </a:rPr>
              <a:t>Web Services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can be incorporated directly into your workflow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32BB-988D-4EDA-932D-FA3726B1A6C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rebuchet MS"/>
              </a:rPr>
              <a:t>Available Web Services</a:t>
            </a:r>
            <a:endParaRPr b="0" lang="en-US" sz="44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http://www.iris.edu/ws/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http://www.iris.edu/ws/event/  (beta)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6F4D-AAEC-42ED-B713-3349411735A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rebuchet MS"/>
              </a:rPr>
              <a:t>Shell Script Example</a:t>
            </a:r>
            <a:endParaRPr b="0" lang="en-US" sz="44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B035-085B-4843-8BE0-CAEBFEA9422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rebuchet MS"/>
              </a:rPr>
              <a:t>Disadvantage to Web Services</a:t>
            </a:r>
            <a:endParaRPr b="0" lang="en-US" sz="44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22093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&lt;StaMessage&gt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&lt;Network net_code="IU"&gt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 &lt;StartDate&gt;1988-01-01T00:00:00&lt;/StartDate&gt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 &lt;EndDate&gt;2500-12-12T23:59:59&lt;/EndDate&gt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 &lt;Description&gt;Global Seismograph Network (GSN - IRIS/USGS)&lt;/Description&gt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 &lt;TotalNumberStations&gt;91&lt;/TotalNumberStations&gt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&lt;/Network&gt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&lt;Network net_code="US"&gt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 &lt;StartDate&gt;1990-01-01T00:00:00&lt;/StartDate&gt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 &lt;EndDate&gt;2500-12-12T23:59:59&lt;/EndDate&gt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 &lt;Description&gt;United States National Seismic Network&lt;/Description&gt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 &lt;TotalNumberStations&gt;90&lt;/TotalNumberStations&gt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&lt;/Network&gt;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&lt;/StaMessage&gt;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144792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Metadata is returned as XM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7780-A29B-448D-9878-BD6B99F9ABB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rebuchet MS"/>
              </a:rPr>
              <a:t>Consider a Scripting Language</a:t>
            </a:r>
            <a:endParaRPr b="0" lang="en-US" sz="44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3124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4997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Perl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ts val="4997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Python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ts val="4997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PHP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ts val="4997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c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ts val="4997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Ruby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ts val="4997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R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ts val="4997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Many more…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1" name="" descr="Perl, modern programming"/>
          <p:cNvPicPr/>
          <p:nvPr/>
        </p:nvPicPr>
        <p:blipFill>
          <a:blip r:embed="rId1"/>
          <a:stretch/>
        </p:blipFill>
        <p:spPr>
          <a:xfrm>
            <a:off x="3124080" y="1676520"/>
            <a:ext cx="571680" cy="6188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029200" y="1600200"/>
            <a:ext cx="38862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ts val="49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www.perl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49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www.python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49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www.php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49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www.tcl.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49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www.ruby-lang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49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www.r-project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4997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homepage"/>
          <p:cNvPicPr/>
          <p:nvPr/>
        </p:nvPicPr>
        <p:blipFill>
          <a:blip r:embed="rId2"/>
          <a:stretch/>
        </p:blipFill>
        <p:spPr>
          <a:xfrm>
            <a:off x="3048120" y="2438280"/>
            <a:ext cx="2009520" cy="676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PHP"/>
          <p:cNvPicPr/>
          <p:nvPr/>
        </p:nvPicPr>
        <p:blipFill>
          <a:blip r:embed="rId3"/>
          <a:stretch/>
        </p:blipFill>
        <p:spPr>
          <a:xfrm>
            <a:off x="3048120" y="3214800"/>
            <a:ext cx="1066680" cy="595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Tcl Home"/>
          <p:cNvPicPr/>
          <p:nvPr/>
        </p:nvPicPr>
        <p:blipFill>
          <a:blip r:embed="rId4"/>
          <a:stretch/>
        </p:blipFill>
        <p:spPr>
          <a:xfrm>
            <a:off x="3200400" y="3962520"/>
            <a:ext cx="571680" cy="523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Ruby - A Programmer's Best Friend"/>
          <p:cNvPicPr/>
          <p:nvPr/>
        </p:nvPicPr>
        <p:blipFill>
          <a:blip r:embed="rId5"/>
          <a:stretch/>
        </p:blipFill>
        <p:spPr>
          <a:xfrm>
            <a:off x="3124080" y="4626000"/>
            <a:ext cx="1600200" cy="576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R logo"/>
          <p:cNvPicPr/>
          <p:nvPr/>
        </p:nvPicPr>
        <p:blipFill>
          <a:blip r:embed="rId6"/>
          <a:stretch/>
        </p:blipFill>
        <p:spPr>
          <a:xfrm>
            <a:off x="3124080" y="5410080"/>
            <a:ext cx="685800" cy="52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835A-D69E-4080-BEB5-FA89B0D18C6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rebuchet MS"/>
              </a:rPr>
              <a:t>Web Service Clients</a:t>
            </a:r>
            <a:endParaRPr b="0" lang="en-US" sz="44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rebuchet MS"/>
              </a:rPr>
              <a:t>none</a:t>
            </a:r>
            <a:endParaRPr b="0" lang="en-US" sz="7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(at this time)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68AD-518C-47E5-9C01-30DD61A73FF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rebuchet MS"/>
              </a:rPr>
              <a:t>Shameless plug for EMERALD</a:t>
            </a:r>
            <a:endParaRPr b="0" lang="en-US" sz="44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47239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EMERALD will include a graphical data request tool using web service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I need your help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81080" y="1600200"/>
            <a:ext cx="517212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46A9-9BA7-42DE-BAE3-DAF6AFD5A9D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8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rebuchet MS"/>
              </a:rPr>
              <a:t>Web Services are replacing DHI/FISSURES (and possibly SOD)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  <a:p>
            <a:pPr marL="339480" indent="-339480">
              <a:spcBef>
                <a:spcPts val="8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rebuchet MS"/>
              </a:rPr>
              <a:t>Web Services can be incorporated directly into your workflow, no client needed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  <a:p>
            <a:pPr marL="339480" indent="-339480">
              <a:spcBef>
                <a:spcPts val="8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rebuchet MS"/>
              </a:rPr>
              <a:t>You will need to learn to parse XML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  <a:p>
            <a:pPr marL="339480" indent="-339480">
              <a:spcBef>
                <a:spcPts val="850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rebuchet MS"/>
              </a:rPr>
              <a:t>This might be a good time to transition to a scripting language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9F6F-9C24-4939-A3B2-3F729D211F7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rebuchet MS"/>
              </a:rPr>
              <a:t>Thanks!</a:t>
            </a:r>
            <a:endParaRPr b="0" lang="en-US" sz="44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320004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Any questions?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5EB1-7BFC-4255-90A8-7333D66B87F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rebuchet MS"/>
              </a:rPr>
              <a:t>Motivation (part 1)</a:t>
            </a:r>
            <a:endParaRPr b="0" lang="en-US" sz="44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o the DHI Community-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he IRIS DMC has supported the Data Handling Interface (DHI) technology for more than a decade.  As with most technologies, </a:t>
            </a:r>
            <a:r>
              <a:rPr b="0" lang="en-US" sz="2000" spc="-1" strike="noStrike">
                <a:solidFill>
                  <a:srgbClr val="ffff00"/>
                </a:solidFill>
                <a:latin typeface="Trebuchet MS"/>
              </a:rPr>
              <a:t>DHI is at the end of its useful life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.  In the meantime, other technologies have emerged as mainstream alternatives to DHI.  These are termed </a:t>
            </a:r>
            <a:r>
              <a:rPr b="0" lang="en-US" sz="2000" spc="-1" strike="noStrike">
                <a:solidFill>
                  <a:srgbClr val="ffff00"/>
                </a:solidFill>
                <a:latin typeface="Trebuchet MS"/>
              </a:rPr>
              <a:t>'web services'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and have been deployed at the DMC since the end of 2010.  The IRIS DMC has replicated most DHI capabilities in web services already. 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r the next two years (until June 30, 2013) the DMC will continue to support DHI in a maintenance mode:  We will fix what breaks but we will not be enhancing DHI.  Other Data Centers supporting DHI may choose to continue supporting their services for an extended period of time.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          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Trebuchet MS"/>
              </a:rPr>
              <a:t>--email from Robert Casey, IRIS DMC, 6/14/2011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7B30-91BE-4FCA-BB1F-028EF8B8E6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rebuchet MS"/>
              </a:rPr>
              <a:t>Program-to-program execution of code on a remote computer</a:t>
            </a:r>
            <a:endParaRPr b="0" lang="en-US" sz="44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Unix/Linux: RPC (Remote Procedure Call)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Windows: DCOM (Distributed Common Object Model)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Multi-OS: CORBA (Common Object Request Broker Architecture)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Multi-OS: </a:t>
            </a:r>
            <a:r>
              <a:rPr b="0" lang="en-US" sz="3200" spc="-1" strike="noStrike">
                <a:solidFill>
                  <a:srgbClr val="ffff00"/>
                </a:solidFill>
                <a:latin typeface="Trebuchet MS"/>
              </a:rPr>
              <a:t>Web Service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B9C9-EBEB-49E0-89A1-E3C2822EAB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rebuchet MS"/>
              </a:rPr>
              <a:t>Advantage to Web Services</a:t>
            </a:r>
            <a:endParaRPr b="0" lang="en-US" sz="44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ffffff"/>
                </a:solidFill>
                <a:latin typeface="Trebuchet MS"/>
              </a:rPr>
              <a:t>Simplicity</a:t>
            </a:r>
            <a:endParaRPr b="0" lang="en-US" sz="129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D840-AA32-420E-83CD-41A877A810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wo main types of </a:t>
            </a:r>
            <a:r>
              <a:rPr b="0" lang="en-US" sz="3200" spc="-1" strike="noStrike">
                <a:solidFill>
                  <a:srgbClr val="ffff00"/>
                </a:solidFill>
                <a:latin typeface="Trebuchet MS"/>
              </a:rPr>
              <a:t>Web Services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990720" indent="-533520">
              <a:spcBef>
                <a:spcPts val="700"/>
              </a:spcBef>
              <a:buClr>
                <a:srgbClr val="ffff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rebuchet MS"/>
              </a:rPr>
              <a:t>SOAP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(Simple Object Access Protocol)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allows definition of data types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an be complex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uses 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XML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as message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an use any communications protoco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990720" indent="-533520">
              <a:spcBef>
                <a:spcPts val="700"/>
              </a:spcBef>
              <a:buClr>
                <a:srgbClr val="ffff00"/>
              </a:buClr>
              <a:buFont typeface="Trebuchet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rebuchet MS"/>
              </a:rPr>
              <a:t>REST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 (Representational State Transfer)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uses HTTP protocol, like a web page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mple query-string URL calling method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often returns 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XML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, but not necessarily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371600" indent="-457200">
              <a:spcBef>
                <a:spcPts val="601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DMC web services use </a:t>
            </a:r>
            <a:r>
              <a:rPr b="0" lang="en-US" sz="2400" spc="-1" strike="noStrike">
                <a:solidFill>
                  <a:srgbClr val="ffff00"/>
                </a:solidFill>
                <a:latin typeface="Trebuchet MS"/>
              </a:rPr>
              <a:t>RES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06BD-05FA-4312-92FE-E0F106DB9D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rebuchet MS"/>
              </a:rPr>
              <a:t>Web Page vs Web Service</a:t>
            </a:r>
            <a:endParaRPr b="0" lang="en-US" sz="44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Web page query string example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rebuchet MS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www.phdcomics.com/comics/archive.php?comicid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=1376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Web service query string example: http://www.iris.edu/ws/station/query?updatedafter=2011-06-24&amp;level=net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0136-9821-4496-B7FA-1430BB1A6E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rebuchet MS"/>
              </a:rPr>
              <a:t>Hierarchy</a:t>
            </a:r>
            <a:endParaRPr b="0" lang="en-US" sz="4400" spc="-1" strike="noStrike">
              <a:solidFill>
                <a:srgbClr val="ffff00"/>
              </a:solidFill>
              <a:latin typeface="Trebuchet MS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52280" y="1789200"/>
            <a:ext cx="8915400" cy="421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5C23-A18C-48DF-92A0-194667B77C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rebuchet MS"/>
              </a:rPr>
              <a:t>The Old Way</a:t>
            </a:r>
            <a:endParaRPr b="0" lang="en-US" sz="44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DHI requires programming (usually in Java or C) or a client such as SOD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DHI/CORBA generally uses a non-standard TCP/IP port, causing firewall issue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Requires a multi-step proces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stablish a local client stub for the function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stablish a connection via the ORB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reate an object on the remote machine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all the function on the remote objec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29CA-93E1-43C2-B6BC-25DDC23710B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00280" y="838080"/>
            <a:ext cx="7581600" cy="29178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rebuchet MS"/>
              </a:rPr>
              <a:t>The New Way</a:t>
            </a:r>
            <a:endParaRPr b="0" lang="en-US" sz="4400" spc="-1" strike="noStrike">
              <a:solidFill>
                <a:srgbClr val="ffff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380988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Uses HTTP and port 80 like any web pag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an be done from shell script or scripting languag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Integrate into your workflow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4698-DA9D-4539-A496-60328B6EE4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00:57:30Z</dcterms:created>
  <dc:creator>John D. West</dc:creator>
  <dc:description/>
  <dc:language>en-US</dc:language>
  <cp:lastModifiedBy>jdw</cp:lastModifiedBy>
  <dcterms:modified xsi:type="dcterms:W3CDTF">2011-07-12T20:40:30Z</dcterms:modified>
  <cp:revision>68</cp:revision>
  <dc:subject/>
  <dc:title>Slide 1</dc:title>
</cp:coreProperties>
</file>